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780588" cy="6648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81200" cy="664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9780480" cy="66484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9780480" cy="66484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9780480" cy="66484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9780480" cy="66484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0" y="0"/>
            <a:ext cx="42386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3"/>
          </p:nvPr>
        </p:nvSpPr>
        <p:spPr>
          <a:xfrm>
            <a:off x="5538600" y="-360"/>
            <a:ext cx="4230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3225960" y="498600"/>
            <a:ext cx="3319200" cy="24890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77400" y="3157200"/>
            <a:ext cx="7815240" cy="29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6315120"/>
            <a:ext cx="42386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5538600" y="6314760"/>
            <a:ext cx="4230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3B5A5-02F0-4C36-9036-7D7AD9EE837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0"/>
          <p:cNvSpPr/>
          <p:nvPr/>
        </p:nvSpPr>
        <p:spPr>
          <a:xfrm>
            <a:off x="5538960" y="6315120"/>
            <a:ext cx="4230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DB438-2971-4A2B-BD87-FAE671B3820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28840" y="498600"/>
            <a:ext cx="3322800" cy="249228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977760" y="3157560"/>
            <a:ext cx="782496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5538960" y="6315120"/>
            <a:ext cx="4230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B9922-7BB6-4227-A0D5-7BBDCC2353A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228840" y="498600"/>
            <a:ext cx="3322800" cy="2492280"/>
          </a:xfrm>
          <a:prstGeom prst="rect">
            <a:avLst/>
          </a:prstGeom>
          <a:ln w="0">
            <a:noFill/>
          </a:ln>
        </p:spPr>
      </p:sp>
      <p:sp>
        <p:nvSpPr>
          <p:cNvPr id="189" name="Text Box 2"/>
          <p:cNvSpPr/>
          <p:nvPr/>
        </p:nvSpPr>
        <p:spPr>
          <a:xfrm>
            <a:off x="977760" y="3157560"/>
            <a:ext cx="782496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5538960" y="6315120"/>
            <a:ext cx="4230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681E7-C8E5-490A-93D1-A6F8034EF9F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228840" y="498600"/>
            <a:ext cx="3322800" cy="2492280"/>
          </a:xfrm>
          <a:prstGeom prst="rect">
            <a:avLst/>
          </a:prstGeom>
          <a:ln w="0">
            <a:noFill/>
          </a:ln>
        </p:spPr>
      </p:sp>
      <p:sp>
        <p:nvSpPr>
          <p:cNvPr id="192" name="Text Box 2"/>
          <p:cNvSpPr/>
          <p:nvPr/>
        </p:nvSpPr>
        <p:spPr>
          <a:xfrm>
            <a:off x="977760" y="3157560"/>
            <a:ext cx="782496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5538960" y="6315120"/>
            <a:ext cx="4230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F8583-DD1E-4D14-A9F4-145B26EC586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228840" y="498600"/>
            <a:ext cx="3322800" cy="2492280"/>
          </a:xfrm>
          <a:prstGeom prst="rect">
            <a:avLst/>
          </a:prstGeom>
          <a:ln w="0">
            <a:noFill/>
          </a:ln>
        </p:spPr>
      </p:sp>
      <p:sp>
        <p:nvSpPr>
          <p:cNvPr id="195" name="Text Box 2"/>
          <p:cNvSpPr/>
          <p:nvPr/>
        </p:nvSpPr>
        <p:spPr>
          <a:xfrm>
            <a:off x="977760" y="3157560"/>
            <a:ext cx="782496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"/>
          <p:cNvSpPr/>
          <p:nvPr/>
        </p:nvSpPr>
        <p:spPr>
          <a:xfrm>
            <a:off x="5538960" y="6315120"/>
            <a:ext cx="4230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E26F2-0A8D-4A26-B334-24CFB57D357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228840" y="498600"/>
            <a:ext cx="3322800" cy="2492280"/>
          </a:xfrm>
          <a:prstGeom prst="rect">
            <a:avLst/>
          </a:prstGeom>
          <a:ln w="0">
            <a:noFill/>
          </a:ln>
        </p:spPr>
      </p:sp>
      <p:sp>
        <p:nvSpPr>
          <p:cNvPr id="198" name="Text Box 2"/>
          <p:cNvSpPr/>
          <p:nvPr/>
        </p:nvSpPr>
        <p:spPr>
          <a:xfrm>
            <a:off x="977760" y="3157560"/>
            <a:ext cx="782496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5538960" y="6315120"/>
            <a:ext cx="4230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CDB6F-6AC8-47BF-94F9-63AD9196909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228840" y="498600"/>
            <a:ext cx="3322800" cy="2492280"/>
          </a:xfrm>
          <a:prstGeom prst="rect">
            <a:avLst/>
          </a:prstGeom>
          <a:ln w="0">
            <a:noFill/>
          </a:ln>
        </p:spPr>
      </p:sp>
      <p:sp>
        <p:nvSpPr>
          <p:cNvPr id="201" name="Text Box 2"/>
          <p:cNvSpPr/>
          <p:nvPr/>
        </p:nvSpPr>
        <p:spPr>
          <a:xfrm>
            <a:off x="977760" y="3157560"/>
            <a:ext cx="782496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5538960" y="6315120"/>
            <a:ext cx="4230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DADA2-6C01-4CAC-9D37-94C61068B52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228840" y="498600"/>
            <a:ext cx="3322800" cy="2492280"/>
          </a:xfrm>
          <a:prstGeom prst="rect">
            <a:avLst/>
          </a:prstGeom>
          <a:ln w="0">
            <a:noFill/>
          </a:ln>
        </p:spPr>
      </p:sp>
      <p:sp>
        <p:nvSpPr>
          <p:cNvPr id="204" name="Text Box 2"/>
          <p:cNvSpPr/>
          <p:nvPr/>
        </p:nvSpPr>
        <p:spPr>
          <a:xfrm>
            <a:off x="977760" y="3157560"/>
            <a:ext cx="782496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"/>
          <p:cNvSpPr/>
          <p:nvPr/>
        </p:nvSpPr>
        <p:spPr>
          <a:xfrm>
            <a:off x="5538960" y="6315120"/>
            <a:ext cx="4230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58B5F-6496-4333-80EF-603135ACA53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30640" y="500040"/>
            <a:ext cx="3321000" cy="2490840"/>
          </a:xfrm>
          <a:prstGeom prst="rect">
            <a:avLst/>
          </a:prstGeom>
          <a:ln w="0">
            <a:noFill/>
          </a:ln>
        </p:spPr>
      </p:sp>
      <p:sp>
        <p:nvSpPr>
          <p:cNvPr id="164" name="Text Box 2"/>
          <p:cNvSpPr/>
          <p:nvPr/>
        </p:nvSpPr>
        <p:spPr>
          <a:xfrm>
            <a:off x="1303200" y="3160800"/>
            <a:ext cx="717408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5543640" y="6316560"/>
            <a:ext cx="42368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2BFE9-5A91-4403-BD80-4123FBCC85B4}" type="slidenum">
              <a:rPr b="0" lang="pt-B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5538960" y="6315120"/>
            <a:ext cx="4230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2974D-B00B-4885-BF90-9B64799542F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28840" y="498600"/>
            <a:ext cx="3322800" cy="2492280"/>
          </a:xfrm>
          <a:prstGeom prst="rect">
            <a:avLst/>
          </a:prstGeom>
          <a:ln w="0">
            <a:noFill/>
          </a:ln>
        </p:spPr>
      </p:sp>
      <p:sp>
        <p:nvSpPr>
          <p:cNvPr id="168" name="Text Box 2"/>
          <p:cNvSpPr/>
          <p:nvPr/>
        </p:nvSpPr>
        <p:spPr>
          <a:xfrm>
            <a:off x="977760" y="3157560"/>
            <a:ext cx="782496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5538960" y="6315120"/>
            <a:ext cx="4230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6662A-4391-4893-9B56-F167B503060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28840" y="498600"/>
            <a:ext cx="3322800" cy="249228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977760" y="3157560"/>
            <a:ext cx="782496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5538960" y="6315120"/>
            <a:ext cx="4230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C6818-CEE9-4C54-9D73-94240E536A5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28840" y="498600"/>
            <a:ext cx="3322800" cy="249228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977760" y="3157560"/>
            <a:ext cx="782496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5538960" y="6315120"/>
            <a:ext cx="4230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8C23C-293D-4009-A6AF-7B029832EAF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28840" y="498600"/>
            <a:ext cx="3322800" cy="2492280"/>
          </a:xfrm>
          <a:prstGeom prst="rect">
            <a:avLst/>
          </a:prstGeom>
          <a:ln w="0">
            <a:noFill/>
          </a:ln>
        </p:spPr>
      </p:sp>
      <p:sp>
        <p:nvSpPr>
          <p:cNvPr id="177" name="Text Box 2"/>
          <p:cNvSpPr/>
          <p:nvPr/>
        </p:nvSpPr>
        <p:spPr>
          <a:xfrm>
            <a:off x="977760" y="3157560"/>
            <a:ext cx="782496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5538960" y="6315120"/>
            <a:ext cx="4230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A0D76-EAA3-47A6-9188-9E1419C9903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28840" y="498600"/>
            <a:ext cx="3322800" cy="2492280"/>
          </a:xfrm>
          <a:prstGeom prst="rect">
            <a:avLst/>
          </a:prstGeom>
          <a:ln w="0">
            <a:noFill/>
          </a:ln>
        </p:spPr>
      </p:sp>
      <p:sp>
        <p:nvSpPr>
          <p:cNvPr id="180" name="Text Box 2"/>
          <p:cNvSpPr/>
          <p:nvPr/>
        </p:nvSpPr>
        <p:spPr>
          <a:xfrm>
            <a:off x="977760" y="3157560"/>
            <a:ext cx="782496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5538960" y="6315120"/>
            <a:ext cx="4230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0C147-499D-4DF7-9C75-D15144F404D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28840" y="498600"/>
            <a:ext cx="3322800" cy="2492280"/>
          </a:xfrm>
          <a:prstGeom prst="rect">
            <a:avLst/>
          </a:prstGeom>
          <a:ln w="0">
            <a:noFill/>
          </a:ln>
        </p:spPr>
      </p:sp>
      <p:sp>
        <p:nvSpPr>
          <p:cNvPr id="183" name="Text Box 2"/>
          <p:cNvSpPr/>
          <p:nvPr/>
        </p:nvSpPr>
        <p:spPr>
          <a:xfrm>
            <a:off x="977760" y="3157560"/>
            <a:ext cx="782496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5538960" y="6315120"/>
            <a:ext cx="4230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1D753-A9D6-4019-8994-8D5E0662542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28840" y="498600"/>
            <a:ext cx="3322800" cy="2492280"/>
          </a:xfrm>
          <a:prstGeom prst="rect">
            <a:avLst/>
          </a:prstGeom>
          <a:ln w="0">
            <a:noFill/>
          </a:ln>
        </p:spPr>
      </p:sp>
      <p:sp>
        <p:nvSpPr>
          <p:cNvPr id="186" name="Text Box 2"/>
          <p:cNvSpPr/>
          <p:nvPr/>
        </p:nvSpPr>
        <p:spPr>
          <a:xfrm>
            <a:off x="977760" y="3157560"/>
            <a:ext cx="782496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93B8F-3553-4A56-9B72-C2B69DBE21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9B50B-26E4-4006-AF0B-D236AC63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32D46-DF15-46FE-A64C-CCA8D771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821A7-E35B-41A6-84E9-3DDC36E18B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5CC6-BCA8-46CD-A317-F04CC197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35CF4-0975-485E-8AA9-EDF56EDE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95342-D9A3-4AEA-93EB-092312FB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DC54-4C0E-483D-9136-D8B72935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160"/>
            <a:ext cx="822312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DF753-7B69-4BD5-A8A5-4CDA4DBF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8215D-A69D-4129-AC35-9FA97A6F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DB063-C3B2-4D51-A9CF-0940CBE3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7ACAB-874F-4383-ABB7-8257C7B4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72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272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6A954E-073D-4928-8391-FBF2363F8F9A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-84240" y="0"/>
            <a:ext cx="9312480" cy="6885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254061"/>
                </a:solidFill>
                <a:latin typeface="Arial Black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968400" cy="89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rcRect l="0" t="1955" r="0" b="6249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-84240" y="0"/>
            <a:ext cx="9312480" cy="6885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357120" y="189000"/>
            <a:ext cx="8429760" cy="11430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254061"/>
                </a:solidFill>
                <a:latin typeface="Arial Black"/>
              </a:rPr>
              <a:t>RESULT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57120" y="1484280"/>
            <a:ext cx="8429760" cy="51595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20720" y="1600200"/>
            <a:ext cx="828360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Tabela 1  – Características do  acompanhamento dos pacientes submetidos a Artroplastia Total do Quadril, Passo Fundo, 2011-201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2360" y="2717640"/>
          <a:ext cx="8264520" cy="3472200"/>
        </p:xfrm>
        <a:graphic>
          <a:graphicData uri="http://schemas.openxmlformats.org/drawingml/2006/table">
            <a:tbl>
              <a:tblPr/>
              <a:tblGrid>
                <a:gridCol w="4051080"/>
                <a:gridCol w="1092240"/>
                <a:gridCol w="1092240"/>
                <a:gridCol w="1014480"/>
                <a:gridCol w="1014480"/>
              </a:tblGrid>
              <a:tr h="298800">
                <a:tc rowSpan="2">
                  <a:txBody>
                    <a:bodyPr lIns="25560" rIns="25560" tIns="68400" bIns="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acterística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5560" rIns="25560" tIns="68400" bIns="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dia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68400" bIns="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an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º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º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25560" rIns="25560" tIns="6840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envolveu Infecçã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8424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8424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8424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25560" rIns="25560" tIns="6840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25560" rIns="25560" tIns="6840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ã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,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,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800">
                <a:tc gridSpan="3">
                  <a:txBody>
                    <a:bodyPr lIns="25560" rIns="25560" tIns="6840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nóstico de ISC realizado através de: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8424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25560" rIns="25560" tIns="6840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f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800">
                <a:tc>
                  <a:txBody>
                    <a:bodyPr lIns="25560" rIns="25560" tIns="6840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internação do pacient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8424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800">
                <a:tc>
                  <a:txBody>
                    <a:bodyPr lIns="25560" rIns="25560" tIns="6840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ítio de Infecçã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8424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8424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8424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25560" rIns="25560" tIns="6840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erficia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080">
                <a:tc>
                  <a:txBody>
                    <a:bodyPr lIns="25560" rIns="25560" tIns="6840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Órgão ou cavidad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Grupo 10"/>
          <p:cNvGrpSpPr/>
          <p:nvPr/>
        </p:nvGrpSpPr>
        <p:grpSpPr>
          <a:xfrm>
            <a:off x="-108000" y="6072120"/>
            <a:ext cx="1643040" cy="785880"/>
            <a:chOff x="-108000" y="6072120"/>
            <a:chExt cx="1643040" cy="785880"/>
          </a:xfrm>
        </p:grpSpPr>
        <p:pic>
          <p:nvPicPr>
            <p:cNvPr id="116" name="Picture 2" descr="XIV Congresso Brasileiro de Controle de Infecção e Epidemiologia Hospitalar"/>
            <p:cNvPicPr/>
            <p:nvPr/>
          </p:nvPicPr>
          <p:blipFill>
            <a:blip r:embed="rId2"/>
            <a:srcRect l="11805" t="41367" r="68753" b="31065"/>
            <a:stretch/>
          </p:blipFill>
          <p:spPr>
            <a:xfrm>
              <a:off x="298080" y="6465240"/>
              <a:ext cx="1236960" cy="39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2" descr="XIV Congresso Brasileiro de Controle de Infecção e Epidemiologia Hospitalar"/>
            <p:cNvPicPr/>
            <p:nvPr/>
          </p:nvPicPr>
          <p:blipFill>
            <a:blip r:embed="rId3"/>
            <a:srcRect l="5556" t="13789" r="85513" b="31065"/>
            <a:stretch/>
          </p:blipFill>
          <p:spPr>
            <a:xfrm>
              <a:off x="-108000" y="6072120"/>
              <a:ext cx="56808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-84240" y="0"/>
            <a:ext cx="9312480" cy="6885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"/>
          <p:cNvSpPr/>
          <p:nvPr/>
        </p:nvSpPr>
        <p:spPr>
          <a:xfrm>
            <a:off x="357120" y="189000"/>
            <a:ext cx="8429760" cy="11430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254061"/>
                </a:solidFill>
                <a:latin typeface="Arial Black"/>
              </a:rPr>
              <a:t>RESULT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57120" y="1484280"/>
            <a:ext cx="8429760" cy="51595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36400" y="2708280"/>
            <a:ext cx="824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17600" y="2690640"/>
          <a:ext cx="8502480" cy="3156120"/>
        </p:xfrm>
        <a:graphic>
          <a:graphicData uri="http://schemas.openxmlformats.org/drawingml/2006/table">
            <a:tbl>
              <a:tblPr/>
              <a:tblGrid>
                <a:gridCol w="4203720"/>
                <a:gridCol w="1114200"/>
                <a:gridCol w="1114560"/>
                <a:gridCol w="1035000"/>
                <a:gridCol w="1035000"/>
              </a:tblGrid>
              <a:tr h="311760">
                <a:tc rowSpan="2">
                  <a:txBody>
                    <a:bodyPr lIns="25560" rIns="25560" tIns="68400" bIns="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acterística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5560" rIns="25560" tIns="68400" bIns="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dia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68400" bIns="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an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º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º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 gridSpan="5">
                  <a:txBody>
                    <a:bodyPr lIns="25560" rIns="25560" tIns="6840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izado teste de cultura para identificar microrganis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400">
                <a:tc>
                  <a:txBody>
                    <a:bodyPr lIns="25560" rIns="25560" tIns="6840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lIns="25560" rIns="25560" tIns="6840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ã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800">
                <a:tc>
                  <a:txBody>
                    <a:bodyPr lIns="25560" rIns="25560" tIns="6840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croorganismo isolad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8424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8424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8424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lIns="25560" rIns="25560" tIns="6840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i="1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hylococcus aureu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3200">
                <a:tc>
                  <a:txBody>
                    <a:bodyPr lIns="25560" rIns="25560" tIns="6840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i="1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eudomonas aeruginos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lIns="25560" rIns="25560" tIns="6840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i="1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erobacter sp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400">
                <a:tc>
                  <a:txBody>
                    <a:bodyPr lIns="25560" rIns="25560" tIns="68400" bIns="0" anchor="b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i="1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ebsiella sp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68400" bIns="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68400" bIns="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68400" bIns="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Rectangle 64"/>
          <p:cNvSpPr/>
          <p:nvPr/>
        </p:nvSpPr>
        <p:spPr>
          <a:xfrm>
            <a:off x="498600" y="1643040"/>
            <a:ext cx="8501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Tabela 1 (continuação)  – Características do  acompanhamento dos pacientes submetidos a Artroplastia Total do Quadril, Passo Fundo, 2011-2012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upo 10"/>
          <p:cNvGrpSpPr/>
          <p:nvPr/>
        </p:nvGrpSpPr>
        <p:grpSpPr>
          <a:xfrm>
            <a:off x="-108000" y="6072120"/>
            <a:ext cx="1643040" cy="785880"/>
            <a:chOff x="-108000" y="6072120"/>
            <a:chExt cx="1643040" cy="785880"/>
          </a:xfrm>
        </p:grpSpPr>
        <p:pic>
          <p:nvPicPr>
            <p:cNvPr id="125" name="Picture 2" descr="XIV Congresso Brasileiro de Controle de Infecção e Epidemiologia Hospitalar"/>
            <p:cNvPicPr/>
            <p:nvPr/>
          </p:nvPicPr>
          <p:blipFill>
            <a:blip r:embed="rId2"/>
            <a:srcRect l="11805" t="41367" r="68753" b="31065"/>
            <a:stretch/>
          </p:blipFill>
          <p:spPr>
            <a:xfrm>
              <a:off x="298080" y="6465240"/>
              <a:ext cx="1236960" cy="39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" descr="XIV Congresso Brasileiro de Controle de Infecção e Epidemiologia Hospitalar"/>
            <p:cNvPicPr/>
            <p:nvPr/>
          </p:nvPicPr>
          <p:blipFill>
            <a:blip r:embed="rId3"/>
            <a:srcRect l="5556" t="13789" r="85513" b="31065"/>
            <a:stretch/>
          </p:blipFill>
          <p:spPr>
            <a:xfrm>
              <a:off x="-108000" y="6072120"/>
              <a:ext cx="56808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647640" y="5759280"/>
            <a:ext cx="7704360" cy="792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84240" y="0"/>
            <a:ext cx="9312480" cy="6885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254061"/>
                </a:solidFill>
                <a:latin typeface="Arial Black"/>
              </a:rPr>
              <a:t>RESULT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647640" y="2147760"/>
            <a:ext cx="79200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tempo mediano das ISC foi de 263 d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  entre 30 e 100 dia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  entre 101 e 299 dias 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  mais de 300 di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tempo mínimo foi 30 dias e o máximo 335 d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878040" y="5688000"/>
            <a:ext cx="7329240" cy="63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 taxa de infecção encontrada no estudo foi de 4,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Grupo 10"/>
          <p:cNvGrpSpPr/>
          <p:nvPr/>
        </p:nvGrpSpPr>
        <p:grpSpPr>
          <a:xfrm>
            <a:off x="-36360" y="6072120"/>
            <a:ext cx="1643040" cy="785880"/>
            <a:chOff x="-36360" y="6072120"/>
            <a:chExt cx="1643040" cy="785880"/>
          </a:xfrm>
        </p:grpSpPr>
        <p:pic>
          <p:nvPicPr>
            <p:cNvPr id="134" name="Picture 2" descr="XIV Congresso Brasileiro de Controle de Infecção e Epidemiologia Hospitalar"/>
            <p:cNvPicPr/>
            <p:nvPr/>
          </p:nvPicPr>
          <p:blipFill>
            <a:blip r:embed="rId2"/>
            <a:srcRect l="11805" t="41367" r="68753" b="31065"/>
            <a:stretch/>
          </p:blipFill>
          <p:spPr>
            <a:xfrm>
              <a:off x="369720" y="6465240"/>
              <a:ext cx="1236960" cy="39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2" descr="XIV Congresso Brasileiro de Controle de Infecção e Epidemiologia Hospitalar"/>
            <p:cNvPicPr/>
            <p:nvPr/>
          </p:nvPicPr>
          <p:blipFill>
            <a:blip r:embed="rId3"/>
            <a:srcRect l="5556" t="13789" r="85513" b="31065"/>
            <a:stretch/>
          </p:blipFill>
          <p:spPr>
            <a:xfrm>
              <a:off x="-36360" y="6072120"/>
              <a:ext cx="56808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47640" y="5759280"/>
            <a:ext cx="7704360" cy="792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84240" y="0"/>
            <a:ext cx="9312480" cy="6885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254061"/>
                </a:solidFill>
                <a:latin typeface="Arial Black"/>
              </a:rPr>
              <a:t>DISCUSS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revisões da literatura mundial revelam que 1 a 5% dos implantes artificiais desenvolvem infecção e faz uma observação em relação ao número elevado de procedimentos, o qual eleva os casos de infec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6120000" y="611172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LIMA e OLIVEIRA,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upo 10"/>
          <p:cNvGrpSpPr/>
          <p:nvPr/>
        </p:nvGrpSpPr>
        <p:grpSpPr>
          <a:xfrm>
            <a:off x="-36360" y="6072120"/>
            <a:ext cx="1643040" cy="785880"/>
            <a:chOff x="-36360" y="6072120"/>
            <a:chExt cx="1643040" cy="785880"/>
          </a:xfrm>
        </p:grpSpPr>
        <p:pic>
          <p:nvPicPr>
            <p:cNvPr id="142" name="Picture 2" descr="XIV Congresso Brasileiro de Controle de Infecção e Epidemiologia Hospitalar"/>
            <p:cNvPicPr/>
            <p:nvPr/>
          </p:nvPicPr>
          <p:blipFill>
            <a:blip r:embed="rId2"/>
            <a:srcRect l="11805" t="41367" r="68753" b="31065"/>
            <a:stretch/>
          </p:blipFill>
          <p:spPr>
            <a:xfrm>
              <a:off x="369720" y="6465240"/>
              <a:ext cx="1236960" cy="39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" descr="XIV Congresso Brasileiro de Controle de Infecção e Epidemiologia Hospitalar"/>
            <p:cNvPicPr/>
            <p:nvPr/>
          </p:nvPicPr>
          <p:blipFill>
            <a:blip r:embed="rId3"/>
            <a:srcRect l="5556" t="13789" r="85513" b="31065"/>
            <a:stretch/>
          </p:blipFill>
          <p:spPr>
            <a:xfrm>
              <a:off x="-36360" y="6072120"/>
              <a:ext cx="56808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647640" y="5759280"/>
            <a:ext cx="7704360" cy="792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-84240" y="0"/>
            <a:ext cx="9312480" cy="6885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254061"/>
                </a:solidFill>
                <a:latin typeface="Arial Black"/>
              </a:rPr>
              <a:t>CONCLUS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taxa de infecção ficou dentro do que a literatura indica, observamos que a busca ativa fonada é instrumento importante para se evitar subnotificações de IS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upo 10"/>
          <p:cNvGrpSpPr/>
          <p:nvPr/>
        </p:nvGrpSpPr>
        <p:grpSpPr>
          <a:xfrm>
            <a:off x="0" y="6072120"/>
            <a:ext cx="1643040" cy="785880"/>
            <a:chOff x="0" y="6072120"/>
            <a:chExt cx="1643040" cy="785880"/>
          </a:xfrm>
        </p:grpSpPr>
        <p:pic>
          <p:nvPicPr>
            <p:cNvPr id="149" name="Picture 2" descr="XIV Congresso Brasileiro de Controle de Infecção e Epidemiologia Hospitalar"/>
            <p:cNvPicPr/>
            <p:nvPr/>
          </p:nvPicPr>
          <p:blipFill>
            <a:blip r:embed="rId2"/>
            <a:srcRect l="11805" t="41367" r="68753" b="31065"/>
            <a:stretch/>
          </p:blipFill>
          <p:spPr>
            <a:xfrm>
              <a:off x="406080" y="6465240"/>
              <a:ext cx="1236960" cy="39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" descr="XIV Congresso Brasileiro de Controle de Infecção e Epidemiologia Hospitalar"/>
            <p:cNvPicPr/>
            <p:nvPr/>
          </p:nvPicPr>
          <p:blipFill>
            <a:blip r:embed="rId3"/>
            <a:srcRect l="5556" t="13789" r="85513" b="31065"/>
            <a:stretch/>
          </p:blipFill>
          <p:spPr>
            <a:xfrm>
              <a:off x="0" y="6072120"/>
              <a:ext cx="56808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-84240" y="0"/>
            <a:ext cx="9312480" cy="6885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"/>
          <p:cNvSpPr/>
          <p:nvPr/>
        </p:nvSpPr>
        <p:spPr>
          <a:xfrm>
            <a:off x="457200" y="189000"/>
            <a:ext cx="8229600" cy="218736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39640" y="2637000"/>
            <a:ext cx="8229600" cy="3960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rcRect l="0" t="0" r="0" b="6421"/>
          <a:stretch/>
        </p:blipFill>
        <p:spPr>
          <a:xfrm>
            <a:off x="7572240" y="6215040"/>
            <a:ext cx="1033560" cy="285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rcRect l="6592" t="19532" r="80958" b="71698"/>
          <a:stretch/>
        </p:blipFill>
        <p:spPr>
          <a:xfrm>
            <a:off x="571680" y="6014880"/>
            <a:ext cx="857160" cy="454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1152360" y="3168720"/>
            <a:ext cx="698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FECÇÃO DE SÍTIO CIRÚRGICO: VIGILÂNCIA PÓS-ALTA EM ARTROPLASTIA TOTAL DO QUADRIL EM UM HOSPITAL DE GRANDE PORTE NO NORTE DO RIO GRANDE DO S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971640" y="5084640"/>
            <a:ext cx="7415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tato: Dionara Schlichting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cih@hsvp.com.b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4"/>
          <a:srcRect l="5906" t="15251" r="4979" b="50202"/>
          <a:stretch/>
        </p:blipFill>
        <p:spPr>
          <a:xfrm>
            <a:off x="457200" y="18900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rcRect l="11506" t="0" r="0" b="0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5996160"/>
            <a:ext cx="9144000" cy="7189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3786120" y="6143760"/>
            <a:ext cx="2298600" cy="426960"/>
            <a:chOff x="3786120" y="6143760"/>
            <a:chExt cx="2298600" cy="426960"/>
          </a:xfrm>
        </p:grpSpPr>
        <p:sp>
          <p:nvSpPr>
            <p:cNvPr id="59" name="Rectangle 4"/>
            <p:cNvSpPr/>
            <p:nvPr/>
          </p:nvSpPr>
          <p:spPr>
            <a:xfrm>
              <a:off x="3786120" y="6168960"/>
              <a:ext cx="412920" cy="36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" name="Picture 5" descr=""/>
            <p:cNvPicPr/>
            <p:nvPr/>
          </p:nvPicPr>
          <p:blipFill>
            <a:blip r:embed="rId2"/>
            <a:stretch/>
          </p:blipFill>
          <p:spPr>
            <a:xfrm>
              <a:off x="3787920" y="6143760"/>
              <a:ext cx="2296800" cy="426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84240" y="0"/>
            <a:ext cx="9312480" cy="6885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254061"/>
                </a:solidFill>
                <a:latin typeface="Arial Black"/>
              </a:rPr>
              <a:t>         </a:t>
            </a:r>
            <a:r>
              <a:rPr b="0" lang="pt-BR" sz="2800" spc="-1" strike="noStrike">
                <a:solidFill>
                  <a:srgbClr val="254061"/>
                </a:solidFill>
                <a:latin typeface="Arial Black"/>
              </a:rPr>
              <a:t>ÁREA DE ABRANGÊNCIA DO HSV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rcRect l="0" t="0" r="10514" b="0"/>
          <a:stretch/>
        </p:blipFill>
        <p:spPr>
          <a:xfrm>
            <a:off x="5148360" y="2492280"/>
            <a:ext cx="3417840" cy="3390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68360" y="1673280"/>
            <a:ext cx="8229600" cy="485136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40,5%  Passo F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58,9%  Outros Municípios / 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1,3%  Outros Es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463   Municíp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Total: 32.200 internações em 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3"/>
          <a:srcRect l="0" t="0" r="10514" b="0"/>
          <a:stretch/>
        </p:blipFill>
        <p:spPr>
          <a:xfrm>
            <a:off x="5292720" y="1628640"/>
            <a:ext cx="339732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-84240" y="0"/>
            <a:ext cx="931248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457200" y="189000"/>
            <a:ext cx="8229600" cy="218736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54040" y="2637000"/>
            <a:ext cx="8229600" cy="3960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rcRect l="0" t="0" r="0" b="6421"/>
          <a:stretch/>
        </p:blipFill>
        <p:spPr>
          <a:xfrm>
            <a:off x="7572240" y="6215040"/>
            <a:ext cx="1033560" cy="285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3"/>
          <a:srcRect l="6592" t="19532" r="80958" b="71698"/>
          <a:stretch/>
        </p:blipFill>
        <p:spPr>
          <a:xfrm>
            <a:off x="571680" y="6014880"/>
            <a:ext cx="857160" cy="4543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152360" y="3168720"/>
            <a:ext cx="698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FECÇÃO DE SÍTIO CIRÚRGICO: VIGILÂNCIA PÓS-ALTA EM ARTROPLASTIA TOTAL DO QUADRIL EM UM HOSPITAL DE GRANDE PORTE NO NORTE DO RIO GRANDE DO S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936720" y="5083200"/>
            <a:ext cx="7415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utores: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onara Schlichting;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na Cláudia Roman Rós; Bárbara Dias Barbosa; Lidiane Riva Pagnussat; Marlene Doring; Gilberto da Luz Barbosa; Claudia De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4"/>
          <a:srcRect l="5906" t="15251" r="4979" b="50202"/>
          <a:stretch/>
        </p:blipFill>
        <p:spPr>
          <a:xfrm>
            <a:off x="457200" y="18900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-84240" y="0"/>
            <a:ext cx="9312480" cy="6885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254061"/>
                </a:solidFill>
                <a:latin typeface="Arial Black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4308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4308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4308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r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34308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34308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863640" y="2570040"/>
            <a:ext cx="4422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troplastia Total do Quadril (ATQ) visa melhorar a qualidade de vida das pessoas que são acometidas por afecções no quadril. Esta cirurgia envolve a substituição da articulação coxofemoral por um implante artif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5853240" y="2333520"/>
            <a:ext cx="2714400" cy="38577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6474240" y="6408720"/>
            <a:ext cx="22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Imagem:http://www.protesedoquadril.com.br/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Grupo 10"/>
          <p:cNvGrpSpPr/>
          <p:nvPr/>
        </p:nvGrpSpPr>
        <p:grpSpPr>
          <a:xfrm>
            <a:off x="-36360" y="6072120"/>
            <a:ext cx="1643040" cy="785880"/>
            <a:chOff x="-36360" y="6072120"/>
            <a:chExt cx="1643040" cy="785880"/>
          </a:xfrm>
        </p:grpSpPr>
        <p:pic>
          <p:nvPicPr>
            <p:cNvPr id="82" name="Picture 2" descr="XIV Congresso Brasileiro de Controle de Infecção e Epidemiologia Hospitalar"/>
            <p:cNvPicPr/>
            <p:nvPr/>
          </p:nvPicPr>
          <p:blipFill>
            <a:blip r:embed="rId3"/>
            <a:srcRect l="11805" t="41367" r="68753" b="31065"/>
            <a:stretch/>
          </p:blipFill>
          <p:spPr>
            <a:xfrm>
              <a:off x="369720" y="6465240"/>
              <a:ext cx="1236960" cy="39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" descr="XIV Congresso Brasileiro de Controle de Infecção e Epidemiologia Hospitalar"/>
            <p:cNvPicPr/>
            <p:nvPr/>
          </p:nvPicPr>
          <p:blipFill>
            <a:blip r:embed="rId4"/>
            <a:srcRect l="5556" t="13789" r="85513" b="31065"/>
            <a:stretch/>
          </p:blipFill>
          <p:spPr>
            <a:xfrm>
              <a:off x="-36360" y="6072120"/>
              <a:ext cx="56808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-84240" y="0"/>
            <a:ext cx="931248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254061"/>
                </a:solidFill>
                <a:latin typeface="Arial Black"/>
              </a:rPr>
              <a:t>OBJETIV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 algn="ctr"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dentificar a incidência e os fatores associados às   infecções em cirurgias de Artroplastia Total de Quadri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Grupo 10"/>
          <p:cNvGrpSpPr/>
          <p:nvPr/>
        </p:nvGrpSpPr>
        <p:grpSpPr>
          <a:xfrm>
            <a:off x="-36360" y="6072120"/>
            <a:ext cx="1643040" cy="785880"/>
            <a:chOff x="-36360" y="6072120"/>
            <a:chExt cx="1643040" cy="785880"/>
          </a:xfrm>
        </p:grpSpPr>
        <p:pic>
          <p:nvPicPr>
            <p:cNvPr id="88" name="Picture 2" descr="XIV Congresso Brasileiro de Controle de Infecção e Epidemiologia Hospitalar"/>
            <p:cNvPicPr/>
            <p:nvPr/>
          </p:nvPicPr>
          <p:blipFill>
            <a:blip r:embed="rId2"/>
            <a:srcRect l="11805" t="41367" r="68753" b="31065"/>
            <a:stretch/>
          </p:blipFill>
          <p:spPr>
            <a:xfrm>
              <a:off x="369720" y="6465240"/>
              <a:ext cx="1236960" cy="39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2" descr="XIV Congresso Brasileiro de Controle de Infecção e Epidemiologia Hospitalar"/>
            <p:cNvPicPr/>
            <p:nvPr/>
          </p:nvPicPr>
          <p:blipFill>
            <a:blip r:embed="rId3"/>
            <a:srcRect l="5556" t="13789" r="85513" b="31065"/>
            <a:stretch/>
          </p:blipFill>
          <p:spPr>
            <a:xfrm>
              <a:off x="-36360" y="6072120"/>
              <a:ext cx="56808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-108000" y="0"/>
            <a:ext cx="9312480" cy="6885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254061"/>
                </a:solidFill>
                <a:latin typeface="Arial Black"/>
              </a:rPr>
              <a:t>METODOLOG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31640" y="1511280"/>
            <a:ext cx="8229600" cy="504036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udo de coorte, retrospectivo não control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spital de ensino e referência no sul do Bras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studo avaliou todos pacientes submetidos à ATQ entre setembro/2011 a setembro/2012, acompanhados pelo SCIH através de busca fonada 30 dias e um ano após a cirur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ou-se o teste qui quadrado e Risco Relativ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intervalo de Confiança de 95% e o valor de p&gt;0,05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entrada no modelo Múltiplo p&lt;0,2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upo 10"/>
          <p:cNvGrpSpPr/>
          <p:nvPr/>
        </p:nvGrpSpPr>
        <p:grpSpPr>
          <a:xfrm>
            <a:off x="-108000" y="6072120"/>
            <a:ext cx="1643040" cy="785880"/>
            <a:chOff x="-108000" y="6072120"/>
            <a:chExt cx="1643040" cy="785880"/>
          </a:xfrm>
        </p:grpSpPr>
        <p:pic>
          <p:nvPicPr>
            <p:cNvPr id="94" name="Picture 2" descr="XIV Congresso Brasileiro de Controle de Infecção e Epidemiologia Hospitalar"/>
            <p:cNvPicPr/>
            <p:nvPr/>
          </p:nvPicPr>
          <p:blipFill>
            <a:blip r:embed="rId2"/>
            <a:srcRect l="11805" t="41367" r="68753" b="31065"/>
            <a:stretch/>
          </p:blipFill>
          <p:spPr>
            <a:xfrm>
              <a:off x="298080" y="6465240"/>
              <a:ext cx="1236960" cy="39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" descr="XIV Congresso Brasileiro de Controle de Infecção e Epidemiologia Hospitalar"/>
            <p:cNvPicPr/>
            <p:nvPr/>
          </p:nvPicPr>
          <p:blipFill>
            <a:blip r:embed="rId3"/>
            <a:srcRect l="5556" t="13789" r="85513" b="31065"/>
            <a:stretch/>
          </p:blipFill>
          <p:spPr>
            <a:xfrm>
              <a:off x="-108000" y="6072120"/>
              <a:ext cx="56808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12120" cy="6885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254061"/>
                </a:solidFill>
                <a:latin typeface="Arial Black"/>
              </a:rPr>
              <a:t>RESULT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484280"/>
            <a:ext cx="8255160" cy="5184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bela 01 – Características gerais dos pacientes avaliados (n=19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5880" y="1960560"/>
          <a:ext cx="7572240" cy="4416480"/>
        </p:xfrm>
        <a:graphic>
          <a:graphicData uri="http://schemas.openxmlformats.org/drawingml/2006/table">
            <a:tbl>
              <a:tblPr/>
              <a:tblGrid>
                <a:gridCol w="5143320"/>
                <a:gridCol w="1214640"/>
                <a:gridCol w="121428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ávei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>
                      <a:noFill/>
                    </a:lnB>
                    <a:solidFill>
                      <a:srgbClr val="00407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>
                      <a:noFill/>
                    </a:lnB>
                    <a:solidFill>
                      <a:srgbClr val="00407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>
                      <a:noFill/>
                    </a:lnB>
                    <a:solidFill>
                      <a:srgbClr val="004070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x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in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cul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édi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P 12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íni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xi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A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tivo cirurg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enças degenerativ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o médio de internação Pré-operató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P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xi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407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" name="Grupo 10"/>
          <p:cNvGrpSpPr/>
          <p:nvPr/>
        </p:nvGrpSpPr>
        <p:grpSpPr>
          <a:xfrm>
            <a:off x="0" y="6072120"/>
            <a:ext cx="1643040" cy="785880"/>
            <a:chOff x="0" y="6072120"/>
            <a:chExt cx="1643040" cy="785880"/>
          </a:xfrm>
        </p:grpSpPr>
        <p:pic>
          <p:nvPicPr>
            <p:cNvPr id="101" name="Picture 2" descr="XIV Congresso Brasileiro de Controle de Infecção e Epidemiologia Hospitalar"/>
            <p:cNvPicPr/>
            <p:nvPr/>
          </p:nvPicPr>
          <p:blipFill>
            <a:blip r:embed="rId2"/>
            <a:srcRect l="11805" t="41367" r="68753" b="31065"/>
            <a:stretch/>
          </p:blipFill>
          <p:spPr>
            <a:xfrm>
              <a:off x="406080" y="6465240"/>
              <a:ext cx="1236960" cy="39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" descr="XIV Congresso Brasileiro de Controle de Infecção e Epidemiologia Hospitalar"/>
            <p:cNvPicPr/>
            <p:nvPr/>
          </p:nvPicPr>
          <p:blipFill>
            <a:blip r:embed="rId3"/>
            <a:srcRect l="5556" t="13789" r="85513" b="31065"/>
            <a:stretch/>
          </p:blipFill>
          <p:spPr>
            <a:xfrm>
              <a:off x="0" y="6072120"/>
              <a:ext cx="56808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-84240" y="0"/>
            <a:ext cx="9312480" cy="6885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"/>
          <p:cNvSpPr/>
          <p:nvPr/>
        </p:nvSpPr>
        <p:spPr>
          <a:xfrm>
            <a:off x="431640" y="189000"/>
            <a:ext cx="8280720" cy="11430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254061"/>
                </a:solidFill>
                <a:latin typeface="Arial Black"/>
              </a:rPr>
              <a:t>RESULT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31640" y="1484280"/>
            <a:ext cx="8280720" cy="5184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20720" y="2306520"/>
            <a:ext cx="78487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dia de tempo cirúrgico =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50 minutos (DP: 48,5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6,2% duração entre 2h a 2h30 minut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9,6% mais de 2h30m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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upo 10"/>
          <p:cNvGrpSpPr/>
          <p:nvPr/>
        </p:nvGrpSpPr>
        <p:grpSpPr>
          <a:xfrm>
            <a:off x="-108000" y="6072120"/>
            <a:ext cx="1643040" cy="785880"/>
            <a:chOff x="-108000" y="6072120"/>
            <a:chExt cx="1643040" cy="785880"/>
          </a:xfrm>
        </p:grpSpPr>
        <p:pic>
          <p:nvPicPr>
            <p:cNvPr id="108" name="Picture 2" descr="XIV Congresso Brasileiro de Controle de Infecção e Epidemiologia Hospitalar"/>
            <p:cNvPicPr/>
            <p:nvPr/>
          </p:nvPicPr>
          <p:blipFill>
            <a:blip r:embed="rId2"/>
            <a:srcRect l="11805" t="41367" r="68753" b="31065"/>
            <a:stretch/>
          </p:blipFill>
          <p:spPr>
            <a:xfrm>
              <a:off x="298080" y="6465240"/>
              <a:ext cx="1236960" cy="39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" descr="XIV Congresso Brasileiro de Controle de Infecção e Epidemiologia Hospitalar"/>
            <p:cNvPicPr/>
            <p:nvPr/>
          </p:nvPicPr>
          <p:blipFill>
            <a:blip r:embed="rId3"/>
            <a:srcRect l="5556" t="13789" r="85513" b="31065"/>
            <a:stretch/>
          </p:blipFill>
          <p:spPr>
            <a:xfrm>
              <a:off x="-108000" y="6072120"/>
              <a:ext cx="56808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2:24:32Z</dcterms:created>
  <dc:creator>Lidiane</dc:creator>
  <dc:description/>
  <dc:language>en-US</dc:language>
  <cp:lastModifiedBy>SCIH</cp:lastModifiedBy>
  <cp:lastPrinted>2014-11-11T16:21:28Z</cp:lastPrinted>
  <dcterms:modified xsi:type="dcterms:W3CDTF">2014-11-17T13:46:52Z</dcterms:modified>
  <cp:revision>49</cp:revision>
  <dc:subject/>
  <dc:title>Slide 1</dc:title>
</cp:coreProperties>
</file>